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FFB4-7AEB-4649-B2A5-B32B26DF2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7347-99E4-43A9-8AFF-F656DCAF4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20880" y="746280"/>
            <a:ext cx="4965480" cy="3725640"/>
          </a:xfrm>
          <a:prstGeom prst="rect">
            <a:avLst/>
          </a:prstGeom>
          <a:ln w="0">
            <a:noFill/>
          </a:ln>
        </p:spPr>
      </p:sp>
      <p:sp>
        <p:nvSpPr>
          <p:cNvPr id="11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C08D-D19D-4090-A153-FAF1110D2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20880" y="746280"/>
            <a:ext cx="4965480" cy="3725640"/>
          </a:xfrm>
          <a:prstGeom prst="rect">
            <a:avLst/>
          </a:prstGeom>
          <a:ln w="0">
            <a:noFill/>
          </a:ln>
        </p:spPr>
      </p:sp>
      <p:sp>
        <p:nvSpPr>
          <p:cNvPr id="12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B239-E5FC-46C5-9F9B-8162D2300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20880" y="746280"/>
            <a:ext cx="4965480" cy="3725640"/>
          </a:xfrm>
          <a:prstGeom prst="rect">
            <a:avLst/>
          </a:prstGeom>
          <a:ln w="0">
            <a:noFill/>
          </a:ln>
        </p:spPr>
      </p:sp>
      <p:sp>
        <p:nvSpPr>
          <p:cNvPr id="12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20880" y="746280"/>
            <a:ext cx="4965480" cy="3725640"/>
          </a:xfrm>
          <a:prstGeom prst="rect">
            <a:avLst/>
          </a:prstGeom>
          <a:ln w="0">
            <a:noFill/>
          </a:ln>
        </p:spPr>
      </p:sp>
      <p:sp>
        <p:nvSpPr>
          <p:cNvPr id="12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FEF8-1594-4D7E-A02F-94628242E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311D0-FECE-4F0A-9BF7-52E1B8F3B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BA3A4-662E-4C28-900E-13886B802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E57EC-6375-4C34-8EA3-A5A9A80F8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F1F1B-6065-42DA-9DF0-EA7A58388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F3A75C-D8EC-4699-BEF0-6B0BDEEF4C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FED319-63D4-4696-9476-75116D0827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5660F0-70E5-4018-A74A-E7EBB36058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633E3-24C9-409B-8580-9EC117E453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ED8FF4-63C2-4014-BEBA-19A5F24CA7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72896B6-FAC7-4170-A986-B12C0A568F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45434C-268B-4461-B479-A4C543E768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B16D8-EE70-4417-A83A-91103A1F8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6EA940-06F3-4BFC-9447-22EE4F164D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EDBCFA-75D9-4B34-A2A9-0DC65794E5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31B98D-3BF2-4D5C-A1C9-B879663920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EBC3BA-2F3E-4B3F-8A3C-DA283B80D8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941834-5475-4E17-8E8C-38216BB171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3625A-D3CD-4E2B-BE1E-1D361CD4D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05BB8-FD89-445D-A5D7-463EB5F76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1D5C5-6A07-4C2F-B69C-107849DB7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FC799-B81E-45EC-8852-F40DDECBC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4E348-529F-4DF3-99F6-AFF8664A9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57C0B-2DB8-4F32-926C-D7A4D830F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1CA20-8321-40F2-894C-B22746B9C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8623-3E90-4BFB-BA6F-D507857BF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CADCBAA-67BA-4660-A1B5-AA6CBEE141A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A52CF40-87A9-4757-BF89-3AB2FB438D7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AFC9-DB4B-4F2D-BD15-FEA998929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Équipes d’intervention rapi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99" name=""/>
          <p:cNvSpPr txBox="1"/>
          <p:nvPr/>
        </p:nvSpPr>
        <p:spPr>
          <a:xfrm>
            <a:off x="458640" y="1557360"/>
            <a:ext cx="8686800" cy="295272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quipes d’experts pluridisciplinaires, fonctionnelles et techniques, pouvant être déployées rapidement en cas de situation d’urg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412640"/>
            <a:ext cx="8686800" cy="4824360"/>
          </a:xfrm>
          <a:prstGeom prst="rect">
            <a:avLst/>
          </a:prstGeom>
          <a:noFill/>
          <a:ln w="0">
            <a:noFill/>
          </a:ln>
        </p:spPr>
        <p:txBody>
          <a:bodyPr anchor="t">
            <a:norm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ligner l’importance d’avoir des équipes d’intervention rapide pleinement opérationnelles, capables d’agir immédiatement, dès la notification d’un cas suspect</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 mandat de ces équip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brièvement les activités de ces équip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éfinition</a:t>
            </a:r>
            <a:endParaRPr b="0" lang="en-US" sz="4400" spc="-1" strike="noStrike">
              <a:solidFill>
                <a:srgbClr val="000000"/>
              </a:solidFill>
              <a:latin typeface="Arial"/>
            </a:endParaRPr>
          </a:p>
        </p:txBody>
      </p:sp>
      <p:sp>
        <p:nvSpPr>
          <p:cNvPr id="103" name=""/>
          <p:cNvSpPr txBox="1"/>
          <p:nvPr/>
        </p:nvSpPr>
        <p:spPr>
          <a:xfrm>
            <a:off x="468360" y="764640"/>
            <a:ext cx="8229600" cy="4929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Équipe d’intervention rapide : groupe d’experts expérimentés pouvant intervenir n’importe où dans le pays sous 24 heures. Aident à endiguer/stopper précocement une flambée. Enquêtent sur le(s) premier(s) cas, fournissent des soins dans un établissement central, s’engagent auprès de la population et exécutent des mesures de prévention et de lutte contre l’infection</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Times New Roman"/>
              </a:rPr>
              <a:t>Équipe d’intervention rapide : composition</a:t>
            </a:r>
            <a:endParaRPr b="0" lang="en-US" sz="3400" spc="-1" strike="noStrike">
              <a:solidFill>
                <a:srgbClr val="000000"/>
              </a:solidFill>
              <a:latin typeface="Arial"/>
            </a:endParaRPr>
          </a:p>
        </p:txBody>
      </p:sp>
      <p:sp>
        <p:nvSpPr>
          <p:cNvPr id="105" name=""/>
          <p:cNvSpPr txBox="1"/>
          <p:nvPr/>
        </p:nvSpPr>
        <p:spPr>
          <a:xfrm>
            <a:off x="324000" y="1052640"/>
            <a:ext cx="4032000" cy="374472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Nationale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laboratoires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t>
            </a:r>
            <a:r>
              <a:rPr b="1" lang="en-GB" sz="1900" spc="-1" strike="noStrike">
                <a:solidFill>
                  <a:srgbClr val="002060"/>
                </a:solidFill>
                <a:latin typeface="Arial"/>
                <a:ea typeface="Arial"/>
              </a:rPr>
              <a:t>expert en soutien psychosocial</a:t>
            </a:r>
            <a:endParaRPr b="0" lang="en-US" sz="19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gestionnaire de donné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média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Content Placeholder 2"/>
          <p:cNvSpPr/>
          <p:nvPr/>
        </p:nvSpPr>
        <p:spPr>
          <a:xfrm>
            <a:off x="4356000" y="1052640"/>
            <a:ext cx="4537080" cy="34560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Infranation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technicien de laboratoi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travailleur social/infirmier psychiatr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employé en charge des donné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responsable des médias locaux</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Content Placeholder 2"/>
          <p:cNvSpPr/>
          <p:nvPr/>
        </p:nvSpPr>
        <p:spPr>
          <a:xfrm>
            <a:off x="611280" y="5300640"/>
            <a:ext cx="8208720" cy="754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Arial"/>
              </a:rPr>
              <a:t>Le nombre d’équipes infranationales  dépend de :  niveau de risque / disponibilité des ressources humaines / situation géograph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1932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Une au niveau national et au moins une au niveau infranation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 personnel médical au module OMS-AFRO appliqué au Libéria (dont centre de traitement fictif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rtographie des centres de santé et repérage des sites possibles de centres de traitement fictif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s bénévoles communautaires et les épidémiologistes des équipes infranationales (hotline 24h/24)</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outien financier d’ETF</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Exercice de simulation</a:t>
            </a:r>
            <a:endParaRPr b="0" lang="en-US" sz="2600" spc="-1" strike="noStrike">
              <a:solidFill>
                <a:srgbClr val="000000"/>
              </a:solidFill>
              <a:latin typeface="Arial"/>
            </a:endParaRPr>
          </a:p>
        </p:txBody>
      </p:sp>
      <p:sp>
        <p:nvSpPr>
          <p:cNvPr id="109"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Times New Roman"/>
              </a:rPr>
              <a:t>Équipe d’intervention rapide : rôle</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50920" y="1052640"/>
            <a:ext cx="8518320" cy="4176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2)</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
        <p:nvSpPr>
          <p:cNvPr id="112" name="Rectangle 1"/>
          <p:cNvSpPr/>
          <p:nvPr/>
        </p:nvSpPr>
        <p:spPr>
          <a:xfrm>
            <a:off x="457200" y="1052640"/>
            <a:ext cx="853452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r des stratégies et des mesures appropriées (dont des activités de communication sur les risque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parer des rapports d’enquête détaillé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er à l’évaluation finale de la riposte à la flamb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197000"/>
            <a:ext cx="8229600" cy="4929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quêter sur les rumeurs, les flambées signalées et autres urgences de santé publiqu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ordonner les actions d’intervention rapide avec les partenaires et autres institutions</a:t>
            </a:r>
            <a:endParaRPr b="0" lang="en-US" sz="3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cer à appliquer les mesures de lutte proposées, dont le renforcement des capacit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3)</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5400" spc="-1" strike="noStrike">
                <a:solidFill>
                  <a:srgbClr val="0000ff"/>
                </a:solidFill>
                <a:latin typeface="Arial"/>
              </a:rPr>
              <a:t>Merci</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8:32:31Z</dcterms:modified>
  <cp:revision>166</cp:revision>
  <dc:subject/>
  <dc:title>DPC Training and Technical Update</dc:title>
</cp:coreProperties>
</file>